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5740-77B1-4761-B382-11DD2C19A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0C5-3799-4E62-9388-9C8FE66EF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C0F2-F712-49B8-84E2-C7B7C09D4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2972-4EB7-41BB-AE5D-52EAB962E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D9C6-1A67-4C4F-B4E5-520841FC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3FF0-DCFB-4725-B9E4-B99C270E3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149A-39FE-48B7-839C-6543E7FB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C49-12ED-40C2-B86C-2F83E6A1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328-6680-456C-BB3A-E21A48CB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463-B04B-492E-9514-68521F7F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BDA-61B8-4199-8A99-332B75F3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3596-E82E-487B-A0E0-F819A71A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13D5-D886-4B16-962C-A91BD672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406B-265F-49DF-812D-7603B470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0C28-F8DB-431C-AE7E-C8FE0138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FC93-110A-448A-B707-F5878798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C69C-562D-4567-979D-8CC0F782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9F69-3853-44AD-BA1B-687F3DA2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8D1-3E0A-4864-9727-04E03982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E40D-A897-41C3-83DC-8CD0871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CF4F-FC19-49F6-82F2-26999909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0F8A-EDDE-4886-8EC5-2DBCA6B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1308-653F-4272-BB87-435798FE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958A-E356-4A86-8449-A5BCABF5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B8D3-91AE-4F55-8851-B2A78171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0895-DF1C-4C5B-9E7D-09553F0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9EB2-17CF-4721-BEB9-4C6683F9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49F3-729F-454A-9C29-B8261524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E61B-2CFA-4DD8-8364-2623461B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1EB-0C1C-42CB-BA44-1FAE4A15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49CE-C057-49A6-9565-EBC71952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3CCE-76ED-4E63-B6BB-7AB038B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5D37-31A2-4DAA-83D4-C028A172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8C3C-E4A2-4715-A8B1-76C5E65F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2E88-88A0-473B-B64B-E6C9F389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00B2-C43F-4A02-A626-CF29ED90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5615-E2AD-4B2F-9FDC-6D37463A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C4C2A-93AA-42FD-B002-27A6B093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B6E8B-6FCC-43BA-BCDB-31857733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714A1-5A98-48C2-835F-42D88DB0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FCC-628B-4A57-BF2B-C470BB9D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2FDC2-2605-4681-B8CC-3504438D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0F877-25BC-412A-B45A-704E08FE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0DE46-D661-4F17-96E2-1081742D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BF2AF-1F30-4C14-9410-16394C25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F5870-CFC6-481C-A8D2-73A2AD6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345A3-22C4-45A6-9629-C68A28BA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C0BC1-E1B4-4DD8-87EE-3CCCDE11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F7494-7E50-4BD7-A7A4-8F21D921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8AB79-2C62-41B1-8C34-F53C97B8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4C9A-DB28-4C70-AA77-35010441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DC7-A290-4E16-BE80-F5FA59DB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878D7-60F9-446E-9D00-28014CB6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6FBCA-FEE0-49D1-A74C-D2715074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E7341-2588-44DE-839A-8941E95D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AAC66-0730-43EA-887F-6C135C7B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E9082-BDA3-446E-954F-049DAB7E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2B995-A138-4EA5-B998-F512CF3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03A1-1697-4878-9B5E-F9DA569F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80267-31A6-40D5-9E99-EE11F60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98DB0-0A34-43BB-856C-3705F4A3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906C4-EE4D-4437-83DC-D734EE4D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27E-BFAA-43A5-A774-1E4D0953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2512-952C-4D4C-8894-20BD4768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871DD-E8B9-4A57-B555-E8B8C86E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9867D-BD81-4992-AD6D-B9E35163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C30CB-FDFF-4D50-BDAA-255F2F77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A1AFE-7E8E-4763-B897-18F22D1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0A617-7768-4F4A-ACAC-38C3486D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5E3E6-2278-41D9-B212-09A44588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DF986-E8B9-4CBB-AF54-3C2DD83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866AA-09F6-4DD3-B42E-8BE71FBC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F00A2-EF45-4897-A2E9-217528C5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F6F-7FE0-451A-A955-5B8A29D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EA97F-F034-4CBF-82FE-ECAB157A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F0F0C-35E0-43CA-8022-5148C78F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2C4E8-6C82-4797-BC0C-AA40A566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83182-CEF5-4DA7-ACAD-DF70BE9B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4CA14-BB55-4B85-8044-084C7123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692FA-381E-4776-A43E-B349A02D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C35E4-6B1F-413D-B4AC-25233F6E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A2837-3D89-4CB3-AC74-4300CEA0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A7E08-3206-4B5A-8148-77DCEC20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D761F-96C3-4976-8207-C74F687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0CE-6E02-442F-B9E7-BC646B3D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A1106-B8E4-4035-A684-C95937E8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28C6B-4CC5-4806-B445-875E074B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38C77-4AAB-43DA-AC6A-9DFF50BE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8DB63-3FE8-425D-B78C-3EC7F39D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339E8-983F-4127-8FB4-5B0AC84A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B2BFBA-DCEA-4CA0-9370-E9D3F18A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999ACC-C4C1-4E1E-9112-B30695A5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CDE1B-EEA4-4C1B-B25A-9C6E7410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EA4850-E8EB-4C65-9DCB-69FCCF43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10D1E-E6AC-4E78-952D-F4D9A439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F7C-DABA-4931-B8BC-1FFF02A7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6D9C6E-4FBC-4A61-B2AB-A0C13DCF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BF4125-063E-4809-B5AF-29E33BD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1BC373-04D5-4F63-8DF2-C7BE2E52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A699F-FF7C-4F4D-AA3A-27629B83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81C5B-33CB-4151-A8F8-164E6055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F88A3-225C-425B-85E2-20A4E9E8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4FCF1-2CB9-4308-9B7E-A655A418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E9A6-52A7-42BB-908D-00F31DF4C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A152-A46B-4296-81F9-BBBE3F807D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56C8-8950-41DF-9D01-E1A7447DF5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4A64-A25F-4621-915A-330A2F2D1F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DCB1-E57B-4BBA-8849-9255CF482E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6D4F-5000-49F0-BADC-9A1756C5D3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1451-5F14-4557-ADE8-3D73A6850C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9FD8-2706-4283-82BB-572887E40E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PED, PEDE, PEDESTRI, PEDI, PEDO, POD, PU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o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e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ot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entip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estri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icu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o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diatri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iped/bip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ctop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latyp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ip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4" descr="centipede.jpg"/>
          <p:cNvPicPr/>
          <p:nvPr/>
        </p:nvPicPr>
        <p:blipFill>
          <a:blip r:embed="rId1"/>
          <a:stretch/>
        </p:blipFill>
        <p:spPr>
          <a:xfrm>
            <a:off x="2895480" y="320040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podiatrist.jpg"/>
          <p:cNvPicPr/>
          <p:nvPr/>
        </p:nvPicPr>
        <p:blipFill>
          <a:blip r:embed="rId2"/>
          <a:stretch/>
        </p:blipFill>
        <p:spPr>
          <a:xfrm>
            <a:off x="304920" y="3276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pedal.jpg"/>
          <p:cNvPicPr/>
          <p:nvPr/>
        </p:nvPicPr>
        <p:blipFill>
          <a:blip r:embed="rId3"/>
          <a:stretch/>
        </p:blipFill>
        <p:spPr>
          <a:xfrm>
            <a:off x="7391520" y="28954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pedestrian.jpg"/>
          <p:cNvPicPr/>
          <p:nvPr/>
        </p:nvPicPr>
        <p:blipFill>
          <a:blip r:embed="rId4"/>
          <a:stretch/>
        </p:blipFill>
        <p:spPr>
          <a:xfrm>
            <a:off x="7315200" y="3808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pedicure.jpg"/>
          <p:cNvPicPr/>
          <p:nvPr/>
        </p:nvPicPr>
        <p:blipFill>
          <a:blip r:embed="rId5"/>
          <a:stretch/>
        </p:blipFill>
        <p:spPr>
          <a:xfrm>
            <a:off x="2057400" y="4876920"/>
            <a:ext cx="2057400" cy="1666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platypus.jpg"/>
          <p:cNvPicPr/>
          <p:nvPr/>
        </p:nvPicPr>
        <p:blipFill>
          <a:blip r:embed="rId6"/>
          <a:stretch/>
        </p:blipFill>
        <p:spPr>
          <a:xfrm>
            <a:off x="3124080" y="12193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tripod.jpg"/>
          <p:cNvPicPr/>
          <p:nvPr/>
        </p:nvPicPr>
        <p:blipFill>
          <a:blip r:embed="rId7"/>
          <a:stretch/>
        </p:blipFill>
        <p:spPr>
          <a:xfrm>
            <a:off x="304920" y="52578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ENT, PEN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i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thl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g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4" descr="pentagon.jpg"/>
          <p:cNvPicPr/>
          <p:nvPr/>
        </p:nvPicPr>
        <p:blipFill>
          <a:blip r:embed="rId1"/>
          <a:stretch/>
        </p:blipFill>
        <p:spPr>
          <a:xfrm>
            <a:off x="7086600" y="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pentagonn.jpg"/>
          <p:cNvPicPr/>
          <p:nvPr/>
        </p:nvPicPr>
        <p:blipFill>
          <a:blip r:embed="rId2"/>
          <a:stretch/>
        </p:blipFill>
        <p:spPr>
          <a:xfrm>
            <a:off x="6019920" y="3352680"/>
            <a:ext cx="2361960" cy="210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pentameter.jpg"/>
          <p:cNvPicPr/>
          <p:nvPr/>
        </p:nvPicPr>
        <p:blipFill>
          <a:blip r:embed="rId3"/>
          <a:stretch/>
        </p:blipFill>
        <p:spPr>
          <a:xfrm>
            <a:off x="533520" y="2514600"/>
            <a:ext cx="2819160" cy="18288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pentathlon.jpg"/>
          <p:cNvPicPr/>
          <p:nvPr/>
        </p:nvPicPr>
        <p:blipFill>
          <a:blip r:embed="rId4"/>
          <a:stretch/>
        </p:blipFill>
        <p:spPr>
          <a:xfrm>
            <a:off x="2514600" y="4495680"/>
            <a:ext cx="1495440" cy="2076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pentathlonn.jpg"/>
          <p:cNvPicPr/>
          <p:nvPr/>
        </p:nvPicPr>
        <p:blipFill>
          <a:blip r:embed="rId5"/>
          <a:stretch/>
        </p:blipFill>
        <p:spPr>
          <a:xfrm>
            <a:off x="380880" y="4419720"/>
            <a:ext cx="167652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ER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rou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ou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e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circl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ge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ge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earth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sco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phe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4" descr="apogee.jpg"/>
          <p:cNvPicPr/>
          <p:nvPr/>
        </p:nvPicPr>
        <p:blipFill>
          <a:blip r:embed="rId1"/>
          <a:stretch/>
        </p:blipFill>
        <p:spPr>
          <a:xfrm>
            <a:off x="304920" y="42670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periscope.jpg"/>
          <p:cNvPicPr/>
          <p:nvPr/>
        </p:nvPicPr>
        <p:blipFill>
          <a:blip r:embed="rId2"/>
          <a:stretch/>
        </p:blipFill>
        <p:spPr>
          <a:xfrm>
            <a:off x="3429000" y="30481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peripheral.jpg"/>
          <p:cNvPicPr/>
          <p:nvPr/>
        </p:nvPicPr>
        <p:blipFill>
          <a:blip r:embed="rId3"/>
          <a:stretch/>
        </p:blipFill>
        <p:spPr>
          <a:xfrm>
            <a:off x="3124080" y="2286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periscopee.jpg"/>
          <p:cNvPicPr/>
          <p:nvPr/>
        </p:nvPicPr>
        <p:blipFill>
          <a:blip r:embed="rId4"/>
          <a:stretch/>
        </p:blipFill>
        <p:spPr>
          <a:xfrm>
            <a:off x="5943600" y="4800600"/>
            <a:ext cx="1886040" cy="152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perimeter.jpg"/>
          <p:cNvPicPr/>
          <p:nvPr/>
        </p:nvPicPr>
        <p:blipFill>
          <a:blip r:embed="rId5"/>
          <a:stretch/>
        </p:blipFill>
        <p:spPr>
          <a:xfrm>
            <a:off x="7010280" y="152280"/>
            <a:ext cx="15624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IL, PHILE, PHILIA, PHIL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lo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ov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ndne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ilanthropist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i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one who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iblioph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ilosoph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ecrophil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gloph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* Hemophilia (uncontrollable bleeding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Picture 5" descr="bibliophile.jpg"/>
          <p:cNvPicPr/>
          <p:nvPr/>
        </p:nvPicPr>
        <p:blipFill>
          <a:blip r:embed="rId1"/>
          <a:stretch/>
        </p:blipFill>
        <p:spPr>
          <a:xfrm>
            <a:off x="3048120" y="2362320"/>
            <a:ext cx="1942920" cy="1218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philanthropist.jpg"/>
          <p:cNvPicPr/>
          <p:nvPr/>
        </p:nvPicPr>
        <p:blipFill>
          <a:blip r:embed="rId2"/>
          <a:stretch/>
        </p:blipFill>
        <p:spPr>
          <a:xfrm>
            <a:off x="533520" y="3962520"/>
            <a:ext cx="2209680" cy="1523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philanthroistt.jpg"/>
          <p:cNvPicPr/>
          <p:nvPr/>
        </p:nvPicPr>
        <p:blipFill>
          <a:blip r:embed="rId3"/>
          <a:stretch/>
        </p:blipFill>
        <p:spPr>
          <a:xfrm>
            <a:off x="3048120" y="4952880"/>
            <a:ext cx="205740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OBE, PHOB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normal fe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atr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islik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glophob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laust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claustr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confine; close; shu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y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pyr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fir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yd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Xen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Zoophobia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zo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animal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6" name="Picture 4" descr="zoophobiaaa.jpg"/>
          <p:cNvPicPr/>
          <p:nvPr/>
        </p:nvPicPr>
        <p:blipFill>
          <a:blip r:embed="rId1"/>
          <a:stretch/>
        </p:blipFill>
        <p:spPr>
          <a:xfrm>
            <a:off x="7315200" y="3886200"/>
            <a:ext cx="1600200" cy="1352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zoophobiaa.jpg"/>
          <p:cNvPicPr/>
          <p:nvPr/>
        </p:nvPicPr>
        <p:blipFill>
          <a:blip r:embed="rId2"/>
          <a:stretch/>
        </p:blipFill>
        <p:spPr>
          <a:xfrm>
            <a:off x="3200400" y="228600"/>
            <a:ext cx="2057400" cy="13906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zoophobia.jpg"/>
          <p:cNvPicPr/>
          <p:nvPr/>
        </p:nvPicPr>
        <p:blipFill>
          <a:blip r:embed="rId3"/>
          <a:stretch/>
        </p:blipFill>
        <p:spPr>
          <a:xfrm>
            <a:off x="2743200" y="39625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claustrophobia.jpg"/>
          <p:cNvPicPr/>
          <p:nvPr/>
        </p:nvPicPr>
        <p:blipFill>
          <a:blip r:embed="rId4"/>
          <a:stretch/>
        </p:blipFill>
        <p:spPr>
          <a:xfrm>
            <a:off x="228600" y="3276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hydrophobia.jpg"/>
          <p:cNvPicPr/>
          <p:nvPr/>
        </p:nvPicPr>
        <p:blipFill>
          <a:blip r:embed="rId5"/>
          <a:stretch/>
        </p:blipFill>
        <p:spPr>
          <a:xfrm>
            <a:off x="228600" y="5181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pyrophobia.jpg"/>
          <p:cNvPicPr/>
          <p:nvPr/>
        </p:nvPicPr>
        <p:blipFill>
          <a:blip r:embed="rId6"/>
          <a:stretch/>
        </p:blipFill>
        <p:spPr>
          <a:xfrm>
            <a:off x="6553080" y="228600"/>
            <a:ext cx="18097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11-04-25T14:32:09Z</dcterms:modified>
  <cp:revision>30</cp:revision>
  <dc:subject/>
  <dc:title>Roots List #1</dc:title>
</cp:coreProperties>
</file>